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6D6-9F69-48DC-BAE9-0DFB94DB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1FC-1EE2-4E5C-8DD6-89D7504C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E01-52F5-4D24-A941-48B975CD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6B1-6CBC-4D78-9D3B-9DF7C942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07C8-1228-46F6-9C54-9C91471B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329E-E84F-4AA0-9F19-589ED64B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18CC-EC62-44C8-94FB-21978657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95B3-ADBC-4C49-90BA-10F69838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109A-783C-4747-ABCD-F3F0C265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C0F8-4706-4F91-91EF-2ED3265C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6CFA-80BD-48C2-A053-3E96A904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814-5693-486D-ABAA-E5199D1C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CEC2-CFDF-4351-ABFF-76B43A2D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1379-E037-4C0E-A7CE-E8747C06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E37C-F747-4CBC-8870-75C2AFC9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0A10-63D0-4C01-8C5D-DBA058C4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FD45-1631-4963-BE05-DED2A2B1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FFB-8080-46A9-A7D7-DC1E1244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121-3AE9-4B1C-BCD4-DC0D2BC2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51D-39EE-4C0B-B890-A40FD239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C99A-0834-497C-A00B-37036E1A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F6B-1CAE-41D6-AFBA-6F73E464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43D-C022-4237-A454-9D921636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3A8-851C-4683-8A0E-B3E9DFD8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47323-FF15-453B-9FF1-71B502AA39B4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4C0E2-6D3C-4CAD-BCF1-5D13A0188068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6881A-72AF-4B7A-90E1-E911AE947799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B30CF-1FC6-4B5C-A54E-F51B251A178C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riumphs and Travails of Jeffersonian Republic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Chapter 11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1800-1812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ouisian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poleon convinced king of Spain to give Louisiana land area to France in 1800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efferson sends Monroe to join Livingston in France to buy as much lands as they could for 10 mill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poleon gives up dream of world empire &amp; agrees to sell for 2 reason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806400" indent="-457200"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Failed to re-conquer island of Santo-Domingo (LA to serve as source of foodstuffs)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806400" indent="-457200"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Britain controlled seas; didn’t want to give LA to Britain; would rather have US mone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806400" indent="-457200">
              <a:spcBef>
                <a:spcPts val="601"/>
              </a:spcBef>
              <a:buClr>
                <a:srgbClr val="215d7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ouisiana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bert Livingston &amp; James Monroe negotiated in Paris for the Louisiana land area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gned  treaty on April 30, 1803 ceding Louisiana to the United States for $15 mill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mericans signed 3 treaties and got much land to the west of the Mississippi.  820,000 square miles at 3 cents/acr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efferson sent his personal secretary, Meriwether Lewis, and William Clark to explore the northern part of the Louisiana Purchase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241200" y="925560"/>
            <a:ext cx="872172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ouisiana Purchas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ubled size of United Sta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rict constructionis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ecedent: acquisition of foreign territory by purchas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wis &amp; Clark: 2 ½ year expedition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cientific observation of Indians in the region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mmense herds of buffalo, elk, deer, and antelope feeding in one common and boundless pasture”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7581960" y="108000"/>
            <a:ext cx="15620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aron Burr Conspiracies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ropped from cabinet during Jefferson’s second ter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lotted secession of New England &amp; New York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milton exposed the plot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Burr challenges Hamilton to a duel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Burr kills Hamilton w/ one sho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Leads to demise of his political career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0" name="Picture 5" descr="320px-Hamilton-burr-duel"/>
          <p:cNvPicPr/>
          <p:nvPr/>
        </p:nvPicPr>
        <p:blipFill>
          <a:blip r:embed="rId2"/>
          <a:stretch/>
        </p:blipFill>
        <p:spPr>
          <a:xfrm>
            <a:off x="6364440" y="4938840"/>
            <a:ext cx="27795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urr Conspiracy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95959"/>
                </a:solidFill>
                <a:uFillTx/>
                <a:latin typeface="News Gothic MT"/>
              </a:rPr>
              <a:t>General James Wilkinson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corrupt military governor of Louisiana Territor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lanned (w/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Burr)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 to separate the western part of the United States from the East &amp;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invade Spanish-controlled Mexico and Florid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 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etrayed Burr when he learned that Jefferson knew of the plo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urr was acquitted of the charges of treason by Marshall &amp; he fled to Europe.                            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utral Americ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efferson reelected in 1804 by a HUGE margin (162-14; Charles Pinckney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gland: power of seas; France: power of Land; America: neutral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Orders in Council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, 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1806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closed the European ports under French control to foreign shipping (includes Americans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 way to trade w/ either nation without fighting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mpressment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5" name="Picture 5" descr="350px-Slaget_p%C3%A5_reden"/>
          <p:cNvPicPr/>
          <p:nvPr/>
        </p:nvPicPr>
        <p:blipFill>
          <a:blip r:embed="rId2"/>
          <a:stretch/>
        </p:blipFill>
        <p:spPr>
          <a:xfrm>
            <a:off x="6872400" y="30240"/>
            <a:ext cx="22716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8" name="Picture 5" descr="vc199"/>
          <p:cNvPicPr/>
          <p:nvPr/>
        </p:nvPicPr>
        <p:blipFill>
          <a:blip r:embed="rId2"/>
          <a:stretch/>
        </p:blipFill>
        <p:spPr>
          <a:xfrm>
            <a:off x="1265400" y="425520"/>
            <a:ext cx="64436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mbarg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eak navy &amp; weak army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95959"/>
                </a:solidFill>
                <a:uFillTx/>
                <a:latin typeface="News Gothic MT"/>
              </a:rPr>
              <a:t>Embargo Act-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Forbade the export of all goods from the United Sta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eaceful coercion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were the effects of the Embargo Act in the United State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95959"/>
                </a:solidFill>
                <a:uFillTx/>
                <a:latin typeface="News Gothic MT"/>
              </a:rPr>
              <a:t>Non-Intercourse Act-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formally reopened trade with all nations of the world except France &amp; Britain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Replaces Embargo Ac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neffective; leads to War of 1812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y did the Embargo fail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nderestimated determination of the Britis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verestimated the dependence of Britain and France on American trad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scalculated unpopularity &amp; difficulty of enforcement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3" name="Picture 5" descr="jefferson-ograbme"/>
          <p:cNvPicPr/>
          <p:nvPr/>
        </p:nvPicPr>
        <p:blipFill>
          <a:blip r:embed="rId2"/>
          <a:stretch/>
        </p:blipFill>
        <p:spPr>
          <a:xfrm>
            <a:off x="3338640" y="3730680"/>
            <a:ext cx="427032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Federalists vs. Republica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lection of 1800: Jefferson vs. Adam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ispering campaign”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Jefferson accused of having an affair w/ one of his slav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ally Heming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4097160" y="3236760"/>
            <a:ext cx="251460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adison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ames Madison became president on March 4, 1809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con’s Bill No. 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ritish refuse to revoke Orders in Council (had control of seas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dison reestablished embargo against Britain alo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d of American neutrality </a:t>
            </a:r>
            <a:r>
              <a:rPr b="0" lang="en-US" sz="24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War of 181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6" name="Picture 5" descr="220px-James_Madison"/>
          <p:cNvPicPr/>
          <p:nvPr/>
        </p:nvPicPr>
        <p:blipFill>
          <a:blip r:embed="rId2"/>
          <a:stretch/>
        </p:blipFill>
        <p:spPr>
          <a:xfrm>
            <a:off x="7402680" y="4737240"/>
            <a:ext cx="17413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ecumseh &amp; The Prophe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ar Hawk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ecumseh &amp; The Prophet (Tenskatawa) unified Indian tribes in a last-ditch battle w/ settlers; allied w/ Britis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attle of Tippecano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illiam Henry Harrison 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5797440" y="3149640"/>
            <a:ext cx="2793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r. Madison’s War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n June 1, 1812, Madison asked Congress to declare war on the British &amp; it agree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Democratic-Republicans who supported the war ("war hawks") felt that the country had to assert American rights to the world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anted to invade Canada, the Indians' stronghold, bc the Indians were being armed by British to attack the settler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Federalists were opposed because they supported Britai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1758960" y="316080"/>
            <a:ext cx="5519880" cy="61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lection of 1800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efferson wins by majority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aron Burr serves as vice presiden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ied w/ Jefferson in electoral colleg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Decision goes to House of Representatives, choose Jefferso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volution of 1800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Overthrow of Federalis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First party overtur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940280" y="3854520"/>
            <a:ext cx="36511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2647800" y="108000"/>
            <a:ext cx="455472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Jeffersonian Restraint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ardoned prisoners of Alien &amp; Sedition Ac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95959"/>
                </a:solidFill>
                <a:uFillTx/>
                <a:latin typeface="News Gothic MT"/>
              </a:rPr>
              <a:t>Naturalization Law of 180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reduced requirement of 14 years of residence to previous 5 yea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d away w/ excise tax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95959"/>
                </a:solidFill>
                <a:uFillTx/>
                <a:latin typeface="News Gothic MT"/>
              </a:rPr>
              <a:t>Albert Gallatin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 Secretary of Treasury to Jefferson;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believed national debt wasn't a blessing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reduced the national debt w/ strict econom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Judiciar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udiciary Act of 1801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dnight Judg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acking” to entrench their party in judiciary branc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ohn Marshall- Federalist judge who was not removed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ames Madison- New secretary of st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956280" y="4245120"/>
            <a:ext cx="190980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arbury v. Madis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44480" y="1444320"/>
            <a:ext cx="804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dison cut judge Marbury's salary; Marbury sued James Madison for his pay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urt ruled that Marbury had right to his pay but court did not have the authority to force Madison to give Marbury his pay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cision showed that the </a:t>
            </a: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Supreme Court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d the final authority in determining the meaning of the Constitution (JUDICIAL REVIEW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3132000" y="5081760"/>
            <a:ext cx="2590920" cy="17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Jefferson, A Reluctant Warrio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de military small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arbary Sta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ader of Tripoli informally declared war on the United States.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Jefferson sent navy to Tripoli &amp; after 4 years of fighting, a deal was reached.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.S. paid Tripoli $60,000 for the release of captured America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6370560" y="5243400"/>
            <a:ext cx="23925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1:09:12Z</dcterms:created>
  <dc:creator>Emily Johnson</dc:creator>
  <dc:description/>
  <dc:language>en-US</dc:language>
  <cp:lastModifiedBy>emily.johnson</cp:lastModifiedBy>
  <dcterms:modified xsi:type="dcterms:W3CDTF">2012-10-19T11:59:11Z</dcterms:modified>
  <cp:revision>8</cp:revision>
  <dc:subject/>
  <dc:title>Triumphs and Travails of Jeffersonian Republic </dc:title>
</cp:coreProperties>
</file>